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85C46-F7E9-4EB0-8EFB-89933FEF6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F8A44-4CF4-43D8-9B28-EDE86D1C095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E2D33-5F1B-40F6-A14B-C3A72B8AD4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B3F17-EAE0-42FE-850B-3632FE0218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D942F-3011-45DF-8E1D-97AC11C657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al integration is only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tep in long path to integrated socie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Tampere Conclusions, Stockholm Program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policies, changes, trends &amp;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national standa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3C886-BD80-4B66-82D7-1550A343B7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many opportunities as obsta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Areas of Strength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sic residence </a:t>
            </a: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security and right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 workers, families, long-term res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sic protections against ethnic, racial, and religious </a:t>
            </a: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icies across Europe are more similar and strong where </a:t>
            </a: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EU law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ppl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GRESS ON ANTI-DISCRI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Areas of weaknes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ew migrants can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articipate politically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 the issues affecting them da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ED MAJOR REFORM (G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LF OLDEST VOTING RIGHTS, HARD TO OBTAIN, HARDER TO LOSE WITHOUT NEGATIVE AFF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AK CONSULTATIVE BODIES COME AND 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ITICAL LIB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scretionary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citizenship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procedures discourage many settled res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DITIONAL COUNTRIES SLIGHTLY FAVOU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 TRENDS  SHORTER (5-7), DUAL (18, DK, DE, NL), BIRTHRIGHT (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NEW COUNTRIES, COMPARED TO IT AND ES, GR MOST, AND PT B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LY CONFIDENT EUROPEAN COUNTRIES DO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untries rarely address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ducatio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needs and opportunities of new generations of diverse stu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LSORY ALL, HALF ALL LEVELS, DIFFERENT NEEDS (E.G. LANGUAGE NOT UP TO STANDARD), MISS OUT OPPORTUNITIES (LANGUAGE NOT FOR ALL) ANY SYSTEM TO DIVERSIFY CLASSROOMS AND TEAC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45037-20B1-4A46-BD42-6D6689E078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+1: Progress happens slow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 years on, 8 inactive or going in opposite dir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6 catching up on basic security, rights, &amp; discrimination prot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 leading countries: few invest in major reform like Greece, Luxembourg, &amp; Portugal; minor changes in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 in reverse because new conditions may delay or discourage inte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ew changes based on hard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veral monitor integration statistics, but few evaluate if policy had any impact on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creasingly based on elections and public perceptions, not evid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0DC02-6497-453B-8534-62CA1EB501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8D4-428B-4656-A341-7428940A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474-916C-42CD-AE64-F169122E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3C44-8D31-471F-B968-EAD0D8DF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793-BB6B-4D32-9FFD-89CDA36F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A10-AC6C-443D-AF53-CE273B26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4CE-4ACB-4528-968A-98A81F7D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601-01D3-4D1E-81D5-9FB57624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6DA-2BAD-4058-B1CD-CCB43247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215-C274-4FCE-A3C3-09C4FEA1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2019-E85E-451F-8812-078C5850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DFE-DF55-48C4-B33B-159E7551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7FD-2E1B-4E97-91F9-DACFBE9B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BD1E-9995-4416-9395-47DB19B8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2F44-E134-4E9B-8D40-CD11644D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0AAC-B9B7-4F50-9B1E-11273E2D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4E4B-40CE-49F4-AEA4-2C712CBC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8B35-E87A-49B3-A4EE-D7DC46F6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F4A3-2C5B-4608-8BCF-CA0132E4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0129-0301-464A-8275-ADDCB915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8082-6C89-4136-A72B-F952E1D4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F875-6F8D-4578-8FBD-8CDCD953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0C4A-364D-4C9B-8560-E6AC1D6B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A8E5-0058-435C-99E6-9535AD2C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721C-E79B-47A3-895C-03FF462D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Z336_MIPEX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7" descr="Z336_MIPEX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11CC8-0858-44FE-B2DD-18335D41ECF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Z336_MIPEX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37301-D312-4C52-B205-D7401E653F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Z336_MIPEX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4440" y="370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olitical participation of migrants: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ities &amp; regions in a European persp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Users\Thuddleston\Downloads\chart111.jpeg"/>
          <p:cNvPicPr/>
          <p:nvPr/>
        </p:nvPicPr>
        <p:blipFill>
          <a:blip r:embed="rId2"/>
          <a:stretch/>
        </p:blipFill>
        <p:spPr>
          <a:xfrm>
            <a:off x="-141120" y="565200"/>
            <a:ext cx="6499080" cy="44942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5788080" y="1650960"/>
            <a:ext cx="3479760" cy="442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pite renewed interest (e.g. PT, ES), major reform &amp; political will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ly half EU countries open non-EU voting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ew consultative bodies, often not strong or independent enough to serve aims (come &amp; 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Thuddleston\Downloads\map (58).jpeg"/>
          <p:cNvPicPr/>
          <p:nvPr/>
        </p:nvPicPr>
        <p:blipFill>
          <a:blip r:embed="rId1"/>
          <a:stretch/>
        </p:blipFill>
        <p:spPr>
          <a:xfrm>
            <a:off x="-444600" y="100080"/>
            <a:ext cx="9331560" cy="60912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Thuddleston\Downloads\map (61).jpeg"/>
          <p:cNvPicPr/>
          <p:nvPr/>
        </p:nvPicPr>
        <p:blipFill>
          <a:blip r:embed="rId2"/>
          <a:stretch/>
        </p:blipFill>
        <p:spPr>
          <a:xfrm>
            <a:off x="-385920" y="0"/>
            <a:ext cx="93837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C:\Users\Thuddleston\Downloads\map (57).jpeg"/>
          <p:cNvPicPr/>
          <p:nvPr/>
        </p:nvPicPr>
        <p:blipFill>
          <a:blip r:embed="rId2"/>
          <a:stretch/>
        </p:blipFill>
        <p:spPr>
          <a:xfrm>
            <a:off x="-434880" y="-115920"/>
            <a:ext cx="938844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08000" y="1201680"/>
            <a:ext cx="9036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bodies in half; often based on nationa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ee elections or nominations by immigrants or NGOs in half; especially national and older bo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presentative of nationality or gender in most; both or more in f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w immigrants hold/share Chair; more in local, older, elected bo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 policies affecting immigrants addressed in 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ties for bodies with greatest man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ght to initiative in most; right to response in only Norway, S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403880" y="46080"/>
          <a:ext cx="4138560" cy="1143000"/>
        </p:xfrm>
        <a:graphic>
          <a:graphicData uri="http://schemas.openxmlformats.org/drawingml/2006/table">
            <a:tbl>
              <a:tblPr/>
              <a:tblGrid>
                <a:gridCol w="4138560"/>
              </a:tblGrid>
              <a:tr h="114300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SimSun"/>
                        </a:rPr>
                        <a:t>Consultative bod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SimSun"/>
                        </a:rPr>
                        <a:t>Areas of str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9fc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147600" y="1622520"/>
            <a:ext cx="8458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252360" y="2151000"/>
            <a:ext cx="87631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C:\Users\Thuddleston\Downloads\chart233.jpeg"/>
          <p:cNvPicPr/>
          <p:nvPr/>
        </p:nvPicPr>
        <p:blipFill>
          <a:blip r:embed="rId1"/>
          <a:stretch/>
        </p:blipFill>
        <p:spPr>
          <a:xfrm>
            <a:off x="147600" y="0"/>
            <a:ext cx="8474040" cy="585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Z336_MIPEX_PP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ZoneTexte 6"/>
          <p:cNvSpPr/>
          <p:nvPr/>
        </p:nvSpPr>
        <p:spPr>
          <a:xfrm>
            <a:off x="285840" y="2000160"/>
            <a:ext cx="8572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84120" y="1606680"/>
            <a:ext cx="867888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 years as an independent policy ‘think-and-do-tank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ion: lasting and positive change for open and inclusiv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tter informed European debate and action on migration, equality and divers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eater European cooperation between &amp; within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 activities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blish expert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re and analyse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age more stakeholders at EU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opportunities for dialogue and mutual lear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398520"/>
          <a:ext cx="8229600" cy="11430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SimSun"/>
                        </a:rPr>
                        <a:t>Migration Policy Gr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9fc9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57200" y="398520"/>
          <a:ext cx="8229600" cy="11430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SimSun"/>
                        </a:rPr>
                        <a:t>MIPEX: Tool to compare, analyse, and improve integration poli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9fc9"/>
                    </a:solidFill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5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all residents have equal rights, responsibilities and opportunities to help them improve their integration outcome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nchmark policies and implementation measures, according to European &amp; international standards on Equal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“Quick Reference Guid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bate government objectives, progress, and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57240" y="20520"/>
            <a:ext cx="6359400" cy="533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6154560" y="144360"/>
          <a:ext cx="2440080" cy="941400"/>
        </p:xfrm>
        <a:graphic>
          <a:graphicData uri="http://schemas.openxmlformats.org/drawingml/2006/table">
            <a:tbl>
              <a:tblPr/>
              <a:tblGrid>
                <a:gridCol w="2440080"/>
              </a:tblGrid>
              <a:tr h="941400">
                <a:tc>
                  <a:txBody>
                    <a:bodyPr lIns="75240" rIns="75240" tIns="37800" bIns="37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SimSun"/>
                        </a:rPr>
                        <a:t>Key Find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9fc9"/>
                    </a:solidFill>
                  </a:tcPr>
                </a:tc>
              </a:tr>
            </a:tbl>
          </a:graphicData>
        </a:graphic>
      </p:graphicFrame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194520" y="1101600"/>
            <a:ext cx="2355840" cy="1082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2"/>
          <p:cNvSpPr/>
          <p:nvPr/>
        </p:nvSpPr>
        <p:spPr>
          <a:xfrm>
            <a:off x="57240" y="20520"/>
            <a:ext cx="30859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5805360" y="2184480"/>
            <a:ext cx="3338640" cy="405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50%: Halfway favourabl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olitical will counts, more than tra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Stronger laws with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itizenship &amp; political participation often similar &amp; weak, esp. new immigratio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All policies often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4" descr=""/>
          <p:cNvPicPr/>
          <p:nvPr/>
        </p:nvPicPr>
        <p:blipFill>
          <a:blip r:embed="rId1"/>
          <a:stretch/>
        </p:blipFill>
        <p:spPr>
          <a:xfrm>
            <a:off x="50760" y="816120"/>
            <a:ext cx="863928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Thuddleston\Downloads\chart3.jpeg"/>
          <p:cNvPicPr/>
          <p:nvPr/>
        </p:nvPicPr>
        <p:blipFill>
          <a:blip r:embed="rId2"/>
          <a:stretch/>
        </p:blipFill>
        <p:spPr>
          <a:xfrm>
            <a:off x="-352440" y="52560"/>
            <a:ext cx="9039240" cy="59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57200" y="122400"/>
          <a:ext cx="8229600" cy="11430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CoE Convention on Nationality 166 (1997)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9/100 ‘unfavourable for integration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9fc9"/>
                    </a:solidFill>
                  </a:tcPr>
                </a:tc>
              </a:tr>
            </a:tbl>
          </a:graphicData>
        </a:graphic>
      </p:graphicFrame>
      <p:sp>
        <p:nvSpPr>
          <p:cNvPr id="142" name="TextBox 5"/>
          <p:cNvSpPr/>
          <p:nvPr/>
        </p:nvSpPr>
        <p:spPr>
          <a:xfrm>
            <a:off x="678240" y="5505480"/>
            <a:ext cx="95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238640" y="5408640"/>
            <a:ext cx="46292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*Among MIPEX countries, only in force for AT, BG, CZ, DK, FI, DE, HU, NL, NO, PT, RO, SK, SE (Few, mostly Central Euro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Users\Thuddleston\Downloads\map (51).jpeg"/>
          <p:cNvPicPr/>
          <p:nvPr/>
        </p:nvPicPr>
        <p:blipFill>
          <a:blip r:embed="rId1"/>
          <a:stretch/>
        </p:blipFill>
        <p:spPr>
          <a:xfrm>
            <a:off x="-407880" y="274680"/>
            <a:ext cx="9604440" cy="6270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6302520" y="1685880"/>
            <a:ext cx="2930400" cy="541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ansformation from countries of emigration-to-immigratio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(DE, LU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 principles from longer immigration (US,CA) &amp; inclusive countries (FR,U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hort residence requirement (3-7 yrs to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me ius soli (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al nationality (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inciples can give way when sovereignty fears or far right hold s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4403880" y="125280"/>
          <a:ext cx="4138560" cy="1143000"/>
        </p:xfrm>
        <a:graphic>
          <a:graphicData uri="http://schemas.openxmlformats.org/drawingml/2006/table">
            <a:tbl>
              <a:tblPr/>
              <a:tblGrid>
                <a:gridCol w="4138560"/>
              </a:tblGrid>
              <a:tr h="114300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SimSun"/>
                        </a:rPr>
                        <a:t>Access to nation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SimSun"/>
                        </a:rPr>
                        <a:t>EU Area of Weak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9fc9"/>
                    </a:solidFill>
                  </a:tcPr>
                </a:tc>
              </a:tr>
            </a:tbl>
          </a:graphicData>
        </a:graphic>
      </p:graphicFrame>
      <p:pic>
        <p:nvPicPr>
          <p:cNvPr id="149" name="Picture 6" descr="C:\Users\Thuddleston\Downloads\chart222.jpeg"/>
          <p:cNvPicPr/>
          <p:nvPr/>
        </p:nvPicPr>
        <p:blipFill>
          <a:blip r:embed="rId1"/>
          <a:stretch/>
        </p:blipFill>
        <p:spPr>
          <a:xfrm>
            <a:off x="-160200" y="1292400"/>
            <a:ext cx="6667200" cy="46098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6010200" y="1685880"/>
            <a:ext cx="3133800" cy="37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ven so, discretionary procedures discourage many from be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itize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ague/high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neven support for integra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alf make conditional upon job/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nly 10 limit discr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ew ‘Hold-outs’ don’t yet tolerate dual na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Thuddleston\Downloads\chart232.jpeg"/>
          <p:cNvPicPr/>
          <p:nvPr/>
        </p:nvPicPr>
        <p:blipFill>
          <a:blip r:embed="rId1"/>
          <a:stretch/>
        </p:blipFill>
        <p:spPr>
          <a:xfrm>
            <a:off x="-146160" y="122400"/>
            <a:ext cx="8890200" cy="580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492120" y="122400"/>
          <a:ext cx="8229600" cy="1188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88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CoE Convention on Participation of foreigners in public life at local level 144 (1992)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37/100 not wholly unfavourable for integ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9fc9"/>
                    </a:solidFill>
                  </a:tcPr>
                </a:tc>
              </a:tr>
            </a:tbl>
          </a:graphicData>
        </a:graphic>
      </p:graphicFrame>
      <p:sp>
        <p:nvSpPr>
          <p:cNvPr id="153" name="TextBox 6"/>
          <p:cNvSpPr/>
          <p:nvPr/>
        </p:nvSpPr>
        <p:spPr>
          <a:xfrm>
            <a:off x="1839960" y="5348160"/>
            <a:ext cx="7169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*Among MIPEX countries, only in force for DK, FI, IT, NL, NO,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882720" y="5505480"/>
            <a:ext cx="95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0:18:03Z</dcterms:created>
  <dc:creator>workstation 09</dc:creator>
  <dc:description/>
  <dc:language>en-US</dc:language>
  <cp:lastModifiedBy>Thomas Huddleston</cp:lastModifiedBy>
  <dcterms:modified xsi:type="dcterms:W3CDTF">2011-09-06T14:26:01Z</dcterms:modified>
  <cp:revision>60</cp:revision>
  <dc:subject/>
  <dc:title>Slide 1</dc:title>
</cp:coreProperties>
</file>